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E60-A222-419B-8D77-226D7365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535-A2BE-4EE9-8851-A211C39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9E8-C1E1-43FF-BBA8-CB93AA9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129-2068-42A6-9481-DC91265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1D5-18C2-4952-8946-1CB1144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9E4-4395-4631-9E61-1085C394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A11-8BAC-4ADA-A0AA-345C0392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783-A379-4EA1-B9A1-DA6C628C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91F-9E32-463B-8FFF-5C0E54B4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0EA-BF70-4DCD-800D-43DAAB7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CA9-6C6D-49DA-9654-1CE81A4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C87-BFD1-45E4-820C-4AA718E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51A7-0275-40C6-B3C2-AC3D69BF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cc.treas.gov/cdd/ServicerContactInformation.pdf" TargetMode="External"/><Relationship Id="rId2" Type="http://schemas.openxmlformats.org/officeDocument/2006/relationships/hyperlink" Target="http://www.occ.treas.gov/cdd/MortgageElectronicRegistrationSystems.pdf" TargetMode="External"/><Relationship Id="rId3" Type="http://schemas.openxmlformats.org/officeDocument/2006/relationships/hyperlink" Target="http://www.mers-servicerid.org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nsp.questions@dca.ga.go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eta.dataplace.org/" TargetMode="External"/><Relationship Id="rId2" Type="http://schemas.openxmlformats.org/officeDocument/2006/relationships/hyperlink" Target="http://beta.dataplace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-762120"/>
            <a:ext cx="8763120" cy="9144000"/>
            <a:chOff x="380880" y="-762120"/>
            <a:chExt cx="8763120" cy="9144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-762120"/>
              <a:ext cx="8763120" cy="914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l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inancing mechanisms for purchase and redevelopment of foreclosed proper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and rehab residential properties that have been abandoned or foreclosed upon, in order to sell, rent, or redevelop such propert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land banks for homes that have been foreclosed up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lish blighted structure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velop demolished or vacant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 published 11/13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FA to be announced December 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for Direct Allocation must be receiv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nuary 15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A expects HUD approval of its Plan by December 31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A announces Direct Allocation awards on or about February 20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months (from HUD Plan approval) to “use”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ation of assistance to area(s) of highest and greatest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apacity (understanding and history of successfully completing CDBG and HERA type 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plan with specific eligible activities, and documentation of ability to implement activities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uence between DCA’s initial proposed allocation, funds requested through the local proposal, and the activities chosen to address the need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cy of local proposal to ensure at least 25% of proposed allocation benefit persons below 50% of 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readiness to proceed with specific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 Allocation Application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iciency and effectiveness of the propos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d understanding of applicable laws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implementation partnerships (if any) and documentation of partner roles and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agreements (e.g. options, contracts, leases, etc.) are in place and ready to imp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le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5,303,743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P funds awarded in flexible pool must be used in conjunction with these pro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come Housing Tax Cred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upportive Hous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FA/NSP Bligh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P to award funds to be issued in Januar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9080" y="6284880"/>
            <a:ext cx="57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nitial allocation is approximate and subjec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months to obligate and spend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governments should be identifying potential REO residentia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cc.treas.gov/cdd/ServicerContactInformation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cc.treas.gov/cdd/MortgageElectronicRegistrationSystems.p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rs-servicerid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reports and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rect Allocation jurisdictions that do not apply for their initial allo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projects to be subject to reallocation by D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urisdictions (both NSP entitlement and non-entitlement) are eligible for State re-allocations…If they submit a letter of interest and copy of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afford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of funds to &lt;50% 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ion/URA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2362320"/>
            <a:ext cx="5540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Allocation to Geor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53,037,451 Total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77,085,125 for State N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,952,326 to NSP Entitlements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lan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DeKalb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a/Richmond Co.     - Fulton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ton Cou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Gwinnett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b Cou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- Savann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umbus/Muscogee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sp.questions@dca.ga.go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Williamson, Assistant Commiss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nn Misner, Director, Office of Field Servi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d Robinson, Director, Office of Community Develop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sandra Knight, Legal Affair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III, Section 2301 of the Housing and Economic Recovery Act of 2008 (H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ndment to State’s FFY 2008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submitted to HUD no later than 12/1/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gister Notice – 10/6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3280" y="320760"/>
            <a:ext cx="81374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and Private Data by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losu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s of Default  (Number and % of Househol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s of Foreclosure Sales* (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% of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Estate Owned Property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% of Househo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gage Loa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of conventional home mortgages by subprime l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tional home purchase mortgage loans by subprime l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Mortgage Disclosure Act (Federal Financial Institutions Examination Council)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ta.dataplac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RealtyTra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248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62485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ted as “Trust Sales” in RealtyTrac data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3280" y="320760"/>
            <a:ext cx="81374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c and Private Data by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ancy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vacant 90 days or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Housing Cost Bu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’s &lt;50% AMI paying &gt;30% of income on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2485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CA Determined Need by Actual Data and R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1786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Determined by Actual Data and R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used to measure need and determine possible direct allocations down to minimum grant size of $5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or Joint applications encour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funds will be placed in a “flexible pool” to be administered by the Georgia Housing Finance Agency (GHF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lement needs adjusted by offset from previous HUD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Action Plan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within Low-, Moderate- and Middle-Income Area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 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ub-Recipient must use at least 25% of their funds to assist those at or below 50% of Area Median Income (AMI)…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must be purchased at an overall discount of 15% as verified by an appraisal made within 60 days of purch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Action Plan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64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Affordability – DCA proposes to adopt the HOME program standards at 24 CFR 92.252(a), (c), (e) and (f), and 92.254 to be in compliance with HUD’s affordabilit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ncome to be managed with existing CDBG Revolving Loan Fund (RLF) policies and local repor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47:58Z</dcterms:created>
  <dc:creator>gmisner</dc:creator>
  <dc:description/>
  <dc:language>en-US</dc:language>
  <cp:lastModifiedBy>bwilliam</cp:lastModifiedBy>
  <dcterms:modified xsi:type="dcterms:W3CDTF">2008-12-02T00:14:1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2322679</vt:r8>
  </property>
  <property fmtid="{D5CDD505-2E9C-101B-9397-08002B2CF9AE}" pid="3" name="_AuthorEmail">
    <vt:lpwstr>glenn.misner@dca.ga.gov</vt:lpwstr>
  </property>
  <property fmtid="{D5CDD505-2E9C-101B-9397-08002B2CF9AE}" pid="4" name="_AuthorEmailDisplayName">
    <vt:lpwstr>Glenn Misner</vt:lpwstr>
  </property>
  <property fmtid="{D5CDD505-2E9C-101B-9397-08002B2CF9AE}" pid="5" name="_EmailSubject">
    <vt:lpwstr>NSP Public Hearing 11-18-08 Final.ppt</vt:lpwstr>
  </property>
  <property fmtid="{D5CDD505-2E9C-101B-9397-08002B2CF9AE}" pid="6" name="_ReviewingToolsShownOnce">
    <vt:lpwstr/>
  </property>
</Properties>
</file>