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E32-E8B8-427E-98FF-3B3DB358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3A7-5F4A-453C-A40B-3CDC1876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298-E2BE-4E95-B676-41551BB9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4B3-6BD3-4841-A1A7-BC8BA16E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C34-61D2-455F-A36D-750FF694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71C-C57D-4B13-A75F-80FF6F1A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51B-C826-4FEB-B357-FF76738D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D8B-477A-4C03-8ADD-89F936D0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CC6-5F08-496F-9FA2-2DB3A3F0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64C-4CDD-453B-B679-DB1A92A7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C64-80C7-450C-88B9-B569886A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96A-7AFA-44B1-BE3E-4F27D82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9311-D2C2-40CD-92AE-8030C5C9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cc.treas.gov/cdd/ServicerContactInformation.pdf" TargetMode="External"/><Relationship Id="rId2" Type="http://schemas.openxmlformats.org/officeDocument/2006/relationships/hyperlink" Target="http://www.occ.treas.gov/cdd/MortgageElectronicRegistrationSystems.pdf" TargetMode="External"/><Relationship Id="rId3" Type="http://schemas.openxmlformats.org/officeDocument/2006/relationships/hyperlink" Target="http://www.mers-servicerid.org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nsp.questions@dca.ga.go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eta.dataplace.org/" TargetMode="External"/><Relationship Id="rId2" Type="http://schemas.openxmlformats.org/officeDocument/2006/relationships/hyperlink" Target="http://beta.dataplace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-762120"/>
            <a:ext cx="8763120" cy="9144000"/>
            <a:chOff x="380880" y="-762120"/>
            <a:chExt cx="8763120" cy="9144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80880" y="-762120"/>
              <a:ext cx="8763120" cy="914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l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inancing mechanisms for purchase and redevelopment of foreclosed propert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and rehab residential properties that have been abandoned or foreclosed upon, in order to sell, rent, or redevelop such propert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land banks for homes that have been foreclosed up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lish blighted structures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velop demolished or vacant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 published 11/13/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FA to be announced December 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for Direct Allocation must be receiv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nuary 15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A expects HUD approval of its Plan by December 3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A announces Direct Allocation awards on or about February 20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months (from HUD Plan approval) to “use”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 Allocation Application R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ation of assistance to area(s) of highest and greatest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capacity (understanding and history of successfully completing CDBG and HERA type 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plan with specific eligible activities, and documentation of ability to implement activities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 Allocation Application R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uence between DCA’s initial proposed allocation, funds requested through the local proposal, and the activities chosen to address the need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quacy of local proposal to ensure at least 25% of proposed allocation benefit persons below 50% of 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readiness to proceed with specific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 Allocation Application R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iciency and effectiveness of the propos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d understanding of applicable laws and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implementation partnerships (if any) and documentation of partner roles and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agreements (e.g. options, contracts, leases, etc.) are in place and ready to imp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5,303,743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P funds awarded in flexible pool must be used in conjunction with these pr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come Housing Tax Credi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upportive Hous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FA/NSP Bligh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P to award funds to be issued in Januar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9080" y="6284880"/>
            <a:ext cx="57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nitial allocation is approximate and subject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months to obligate and spend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governments should be identifying potential REO residentia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cc.treas.gov/cdd/ServicerContactInformation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cc.treas.gov/cdd/MortgageElectronicRegistrationSystems.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ers-servicerid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ly reports and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rect Allocation jurisdictions that do not apply for their initial allo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projects to be subject to reallocation by D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urisdictions (both NSP entitlement and non-entitlement) are eligible for State re-allocations…If they submit a letter of interest and copy of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le afford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of funds to &lt;50% 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ocation/URA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2362320"/>
            <a:ext cx="5540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Allocation to Geor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53,037,451 Total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77,085,125 for State N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,952,326 to NSP Entitlements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n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 DeKalb 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a/Richmond Co.     - Fulton 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yton Coun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 Gwinnett 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bb Coun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 Savann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bus/Muscogee 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sp.questions@dca.ga.go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Williamson, Assistant Commissi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enn Misner, Director, Office of Field Servi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d Robinson, Director, Office of Community Develop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sandra Knight, Legal Affairs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II, Section 2301 of the Housing and Economic Recovery Act of 2008 (H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ndment to State’s FFY 2008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submitted to HUD no later than 12/1/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Register Notice – 10/6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3280" y="320760"/>
            <a:ext cx="81374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and Private Data by Cou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losu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s of Default  (Number and % of Househol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ces of Foreclosure Sales* (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and % of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Estate Owned Property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and % of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gage Loa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of conventional home mortgages by subprime le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al home purchase mortgage loans by subprime len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Mortgage Disclosure Act (Federal Financial Institutions Examination Council)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ta.dataplac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RealtyTra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2485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6248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d as “Trust Sales” in RealtyTrac data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3280" y="320760"/>
            <a:ext cx="81374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and Private Data by Cou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cancy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vacant 90 days or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Housing Cost Bu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’s &lt;50% AMI paying &gt;30% of income on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62485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CA Determined Need by Actual Data and R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1786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Determined by Actual Data and R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used to measure need and determine possible direct allocations down to minimum grant size of $5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or Joint applications encour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funds will be placed in a “flexible pool” to be administered by the Georgia Housing Finance Agency (GHF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lement needs adjusted by offset from previous HUD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Action Plan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64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within Low-, Moderate- and Middle-Income Area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e 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ub-Recipient must use at least 25% of their funds to assist those at or below 50% of Area Median Income (AMI)…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must be purchased at an overall discount of 15% as verified by an appraisal made within 60 days of purcha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Action Plan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64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Affordability – DCA proposes to adopt the HOME program standards at 24 CFR 92.252(a), (c), (e) and (f), and 92.254 to be in compliance with HUD’s affordabilit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ncome to be managed with existing CDBG Revolving Loan Fund (RLF) policies and local repor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47:58Z</dcterms:created>
  <dc:creator>gmisner</dc:creator>
  <dc:description/>
  <dc:language>en-US</dc:language>
  <cp:lastModifiedBy>bwilliam</cp:lastModifiedBy>
  <dcterms:modified xsi:type="dcterms:W3CDTF">2008-12-02T00:14:19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02322679</vt:r8>
  </property>
  <property fmtid="{D5CDD505-2E9C-101B-9397-08002B2CF9AE}" pid="3" name="_AuthorEmail">
    <vt:lpwstr>glenn.misner@dca.ga.gov</vt:lpwstr>
  </property>
  <property fmtid="{D5CDD505-2E9C-101B-9397-08002B2CF9AE}" pid="4" name="_AuthorEmailDisplayName">
    <vt:lpwstr>Glenn Misner</vt:lpwstr>
  </property>
  <property fmtid="{D5CDD505-2E9C-101B-9397-08002B2CF9AE}" pid="5" name="_EmailSubject">
    <vt:lpwstr>NSP Public Hearing 11-18-08 Final.ppt</vt:lpwstr>
  </property>
  <property fmtid="{D5CDD505-2E9C-101B-9397-08002B2CF9AE}" pid="6" name="_ReviewingToolsShownOnce">
    <vt:lpwstr/>
  </property>
</Properties>
</file>